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6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6.wmf" ContentType="image/x-wmf"/>
  <Override PartName="/ppt/media/image7.png" ContentType="image/png"/>
  <Override PartName="/ppt/media/image8.wmf" ContentType="image/x-wmf"/>
  <Override PartName="/ppt/media/image9.wmf" ContentType="image/x-wmf"/>
  <Override PartName="/ppt/media/image10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764338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4400" cy="986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31840" y="-36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11.12.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5840" y="739440"/>
            <a:ext cx="4934160" cy="3700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1080" rIns="91080" tIns="45360" bIns="453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687920"/>
            <a:ext cx="5413320" cy="444024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31840" y="9372240"/>
            <a:ext cx="2932200" cy="49356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CB6FA-F786-45B2-B383-AB92CC38A3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7737BBDB-F032-45DD-85CE-3F477CBFFB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8721F7B1-8834-4376-A243-1DF4A5CCD1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199362DC-673B-44DA-AB95-8AC2FC6AB8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489FAE8-125B-47D5-87E6-F3D5887670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2582969-C79A-40A6-8CFF-DEC9309A05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454E6651-213F-49AD-BF2A-95A5AB7656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841C09A4-7C3B-4010-89DF-71B2C122CE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1FE50B8-75F6-4DCB-B76C-8F82AEADAF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Monitorování projektu – též včasná identifikace rizik a zabránění nesrovnalostem  - ale 6 měsíců je dlouhá dob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934AF578-EB35-42D2-AF4D-6BF9960C9D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F28EDCCC-8FD9-4CAE-82D1-5615CF12157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66C3FD47-D95E-4268-8945-A6259D07C1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91080" rIns="91080" tIns="45360" bIns="453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vím zda to oranžové stále platí!!!!!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Neposkytnutí informací – hrozba kontroly na místě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E748B2F7-8C99-421D-BF27-AEDC690DD7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8"/>
          <p:cNvSpPr/>
          <p:nvPr/>
        </p:nvSpPr>
        <p:spPr>
          <a:xfrm>
            <a:off x="3832200" y="9372600"/>
            <a:ext cx="29322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6440"/>
                <a:tab algn="l" pos="816120"/>
                <a:tab algn="l" pos="1225440"/>
                <a:tab algn="l" pos="1635120"/>
                <a:tab algn="l" pos="2043000"/>
                <a:tab algn="l" pos="2452680"/>
                <a:tab algn="l" pos="2862360"/>
                <a:tab algn="l" pos="3271680"/>
                <a:tab algn="l" pos="3679920"/>
                <a:tab algn="l" pos="4091040"/>
                <a:tab algn="l" pos="4498920"/>
                <a:tab algn="l" pos="4908600"/>
                <a:tab algn="l" pos="5319720"/>
                <a:tab algn="l" pos="5727600"/>
                <a:tab algn="l" pos="6137280"/>
                <a:tab algn="l" pos="6546960"/>
                <a:tab algn="l" pos="6956280"/>
                <a:tab algn="l" pos="7364520"/>
                <a:tab algn="l" pos="7775640"/>
                <a:tab algn="l" pos="8183520"/>
                <a:tab algn="l" pos="8229600"/>
                <a:tab algn="l" pos="9144000"/>
                <a:tab algn="l" pos="10058400"/>
              </a:tabLst>
            </a:pPr>
            <a:fld id="{B373422E-DBD3-4F0F-9156-CF36C8011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1"/>
          <p:cNvSpPr/>
          <p:nvPr/>
        </p:nvSpPr>
        <p:spPr>
          <a:xfrm>
            <a:off x="992160" y="750960"/>
            <a:ext cx="478152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body"/>
          </p:nvPr>
        </p:nvSpPr>
        <p:spPr>
          <a:xfrm>
            <a:off x="676440" y="4687560"/>
            <a:ext cx="5410080" cy="44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7C41B-DFB4-4143-AB36-98A519B07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CD198-10A4-4E7F-8865-40837CEF5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02E1E-3EF0-4BBD-ABDE-1D34296F70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97DFF-4524-4A7B-AEFA-821FB057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632FA-ED38-451E-8F8E-8291F15B0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9E68C-354A-4DA1-8CB6-BB64073745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BDA55-7881-4BBD-A105-DDD6FFB87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646ED-7440-4F42-A6BA-C64C86BC17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CAD5-1349-41A4-B6BD-2ABA7133E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E0785-873D-4E6E-849A-69B61E1B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09F8-4E2D-41C9-9C94-75B3B7645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1B03-1C58-4791-B5ED-1D65C497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72802-274D-4D25-9035-6D60FF83A40B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mailto:marie.kaufner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msmt.cz/strukturalni-fondy/pro-zadatele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wmf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57160" y="642960"/>
            <a:ext cx="6957720" cy="466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800" spc="-1" strike="noStrike">
                <a:solidFill>
                  <a:srgbClr val="f3912c"/>
                </a:solidFill>
                <a:latin typeface="Calibri"/>
              </a:rPr>
              <a:t>Pravidla monitorování</a:t>
            </a:r>
            <a:br>
              <a:rPr sz="4800"/>
            </a:br>
            <a:br>
              <a:rPr sz="3600"/>
            </a:br>
            <a:br>
              <a:rPr sz="3600"/>
            </a:br>
            <a:r>
              <a:rPr b="1" lang="cs-CZ" sz="2500" spc="-1" strike="noStrike">
                <a:solidFill>
                  <a:srgbClr val="f3912c"/>
                </a:solidFill>
                <a:latin typeface="Calibri"/>
              </a:rPr>
              <a:t>Ing. Marie Kaufnerová</a:t>
            </a:r>
            <a:br>
              <a:rPr sz="2500"/>
            </a:br>
            <a:br>
              <a:rPr sz="2500"/>
            </a:br>
            <a:r>
              <a:rPr b="1" lang="cs-CZ" sz="1600" spc="-1" strike="noStrike">
                <a:solidFill>
                  <a:srgbClr val="f3912c"/>
                </a:solidFill>
                <a:latin typeface="Calibri"/>
              </a:rPr>
              <a:t>Prezentace pro příjemce IPo, kteří se řídí Příručkou pro příjemce fin.podpory z OP VK, verze 3, učinná od 3.10.2009.</a:t>
            </a:r>
            <a:br>
              <a:rPr sz="1600"/>
            </a:br>
            <a:br>
              <a:rPr sz="3600"/>
            </a:br>
            <a:br>
              <a:rPr sz="1800"/>
            </a:b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0" name="Nadpis 1"/>
          <p:cNvSpPr/>
          <p:nvPr/>
        </p:nvSpPr>
        <p:spPr>
          <a:xfrm>
            <a:off x="5788080" y="621504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Nadpis 1"/>
          <p:cNvSpPr/>
          <p:nvPr/>
        </p:nvSpPr>
        <p:spPr>
          <a:xfrm>
            <a:off x="5788080" y="5857920"/>
            <a:ext cx="3355920" cy="64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cs-CZ" sz="1100" spc="-1" strike="noStrike">
                <a:solidFill>
                  <a:srgbClr val="f5f4ed"/>
                </a:solidFill>
                <a:latin typeface="Calibri"/>
              </a:rPr>
              <a:t>Praha 11. 12. 2009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Zástupný symbol pro obsah 7" descr=""/>
          <p:cNvPicPr/>
          <p:nvPr/>
        </p:nvPicPr>
        <p:blipFill>
          <a:blip r:embed="rId1"/>
          <a:stretch/>
        </p:blipFill>
        <p:spPr>
          <a:xfrm>
            <a:off x="1420920" y="506520"/>
            <a:ext cx="7375320" cy="452268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Zástupný symbol pro obsah 7"/>
          <p:cNvSpPr/>
          <p:nvPr/>
        </p:nvSpPr>
        <p:spPr>
          <a:xfrm>
            <a:off x="1720800" y="577800"/>
            <a:ext cx="6956640" cy="602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a o udržitelnost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Žadatel specifikuje aktivity, které povedou k udržitelnosti projektu a které jsou následně posuzovány hodnotiteli a výběrovou komisí. K udržení těchto výstupů je zavázán Rozhodnutím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Příjemce dokládá udržitelnost projektu monitorovací zprávou jednou za rok nejpozději do 2 měsíců od uplynutí  ročního monitorovacího obdob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Nesplnění povinnosti udržitelnosti je porušením rozpočtové kázně, za kterou může být udělena sankce až do výše poskytnuté dotac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3" descr="C:\Documents and Settings\gotzv\Local Settings\Temporary Internet Files\Content.IE5\DBCR952T\MCj02155480000[1].wmf"/>
          <p:cNvPicPr/>
          <p:nvPr/>
        </p:nvPicPr>
        <p:blipFill>
          <a:blip r:embed="rId1"/>
          <a:stretch/>
        </p:blipFill>
        <p:spPr>
          <a:xfrm>
            <a:off x="7429680" y="4929120"/>
            <a:ext cx="1550880" cy="156852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Zástupný symbol pro obsah 7"/>
          <p:cNvSpPr/>
          <p:nvPr/>
        </p:nvSpPr>
        <p:spPr>
          <a:xfrm>
            <a:off x="1655640" y="1095480"/>
            <a:ext cx="6956640" cy="49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Formy kontrol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Administrativní kontroly projektu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pravidelných monitorovacích zpráv; probíhá na pracovišti poskytovate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Kontroly na místě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– formou veřejnoprávní kontroly podle zák. č. 320/2001 Sb. o finanční kontrole ve veřejné správě   a zákona č.  552/1991 Sb. O státní kontrole, v souladu s nařízením rady EK č. 1083/2006 o obecných ustanoveních o Evropském fondu pro regionální rozvoj, Evropském sociálním fondu a Fondu soudržnost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Zástupný symbol pro obsah 7"/>
          <p:cNvSpPr/>
          <p:nvPr/>
        </p:nvSpPr>
        <p:spPr>
          <a:xfrm>
            <a:off x="1655640" y="1744560"/>
            <a:ext cx="6956640" cy="379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esrovnalosti při realizaci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Jakékoliv porušení smluvních podmínek stanovených v právním aktu či stanovených v příručce pro příjemce dotace nebo v nařízeních EK týkajících se čerpání finančních prostředk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skytovatel dotace může uložit sankce, které jsou uvedeny v právním a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13" descr="C:\Documents and Settings\gotzv\Local Settings\Temporary Internet Files\Content.IE5\LUHYZSFQ\MCj04241980000[1].wmf"/>
          <p:cNvPicPr/>
          <p:nvPr/>
        </p:nvPicPr>
        <p:blipFill>
          <a:blip r:embed="rId1"/>
          <a:stretch/>
        </p:blipFill>
        <p:spPr>
          <a:xfrm>
            <a:off x="6354720" y="4919760"/>
            <a:ext cx="1919160" cy="12319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97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Kontroly, audit, sank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Zástupný symbol pro obsah 7"/>
          <p:cNvSpPr/>
          <p:nvPr/>
        </p:nvSpPr>
        <p:spPr>
          <a:xfrm>
            <a:off x="1655640" y="1744560"/>
            <a:ext cx="6956640" cy="42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Sankce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monitorovacího indikátoru výsledku nebo výstupu o 10% - 25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25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e všech proplacených prostředků v případě neplnění jakéhokoliv indikátoru výsledku nebo výstupu o 25% -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b0f0"/>
                </a:solidFill>
                <a:latin typeface="Calibri"/>
              </a:rPr>
              <a:t>100%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- Odstoupení od právního aktu v případě neplnění jakéhokoliv indikátoru výsledku nebo výstupu o více jak 50%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Zástupný symbol pro obsah 7"/>
          <p:cNvSpPr/>
          <p:nvPr/>
        </p:nvSpPr>
        <p:spPr>
          <a:xfrm>
            <a:off x="1655640" y="382680"/>
            <a:ext cx="695664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udit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U všech projektů s podporou nad 3 miliony Kč audit autorizovanou firmou (zápis v seznamu auditorů vedeným Komorou auditorů ČR dle zákona č. 93/2009 Sb. O auditorech v platném zněn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hodnotí stav projektu v auditovaném období; může být započat již v době realizac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Audit se týká jak projektového účetnictví příjemce, tak projektového účetnictví partnerů s finančním příspěvkem (ověřuje správnost a úplnost zaúčtování, způsobilost výdajů, zhodnotí postup zakázek, ověření souladu s platným rozpočtem projektu)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d0d0d"/>
                </a:solidFill>
                <a:latin typeface="Calibri"/>
              </a:rPr>
              <a:t>Výdaje na nekvalitní audit s chybami nemusí poskytovatel uznat za způsobilý výdaj a může si vyžádat nový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2" descr="C:\Documents and Settings\gotzv\Local Settings\Temporary Internet Files\Content.IE5\LUHYZSFQ\MCBD19977_0000[1].wmf"/>
          <p:cNvPicPr/>
          <p:nvPr/>
        </p:nvPicPr>
        <p:blipFill>
          <a:blip r:embed="rId1"/>
          <a:stretch/>
        </p:blipFill>
        <p:spPr>
          <a:xfrm>
            <a:off x="6643800" y="415800"/>
            <a:ext cx="1428480" cy="8924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720800" y="317160"/>
            <a:ext cx="702144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3912c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Zástupný symbol pro obsah 7"/>
          <p:cNvSpPr/>
          <p:nvPr/>
        </p:nvSpPr>
        <p:spPr>
          <a:xfrm>
            <a:off x="1655640" y="1031760"/>
            <a:ext cx="6956640" cy="47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Archivace v listinné i el. podobě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K archivaci je příjemce i partneři zavázáni v právním a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in. do roku 2025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áklady na archivaci po ukončení realizace projektu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nejsou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 způsobilé výdaje projektu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Archivace se řídí zákonem č. 563/199 Sb. o účetnictví, č. 235/2004 Sb. o DPH, č. 589/1992 Sb. o pojistném na soc. zabezpečení a příspěvku na SPZ, č. 592/1992 Sb. o pojistném a všeobecné zdravotní pojištění, č. 499/2004 Sb. O archivnictví a spisové službě a vyhláškami k tomuto zákonu č. 645/2004 Sb. a č. 646/2004 Sb. O podrobnostech výkonu spisové služb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0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792440" y="577800"/>
            <a:ext cx="5486400" cy="414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ffa41d"/>
                </a:solidFill>
                <a:latin typeface="Calibri"/>
              </a:rPr>
              <a:t>ARCHIVAC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ýčet dokumentů a výstupů projektu, které podléhají archivaci  -  kapitola 12.2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mínky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Zajistit trvalost zápisů písemných či elektronických po celou dobu archivace tj. do roku 2025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(Scany mizejících tisků, zálohovaní dat na vhodná média aj.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2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3912c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92080" y="2716200"/>
            <a:ext cx="68626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Marie Kaufner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projektový manaž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marie.kaufner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telefon: 234 814 23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11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Zástupný symbol pro obsah 7"/>
          <p:cNvSpPr/>
          <p:nvPr/>
        </p:nvSpPr>
        <p:spPr>
          <a:xfrm>
            <a:off x="1655640" y="1095480"/>
            <a:ext cx="6956640" cy="502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ání projekt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edování průběhu realizace a efektivní využití finančních prostředků projektu v souladu s cíli OP V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odklad pro kontroly a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běr dat o aktivitách a dosažených hodnotách M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louží též k včasné identifikaci rizik a zabránění nesrovnaloste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C:\Documents and Settings\gotzv\Local Settings\Temporary Internet Files\Content.IE5\DBCR952T\MCj02953490000[1].wmf"/>
          <p:cNvPicPr/>
          <p:nvPr/>
        </p:nvPicPr>
        <p:blipFill>
          <a:blip r:embed="rId1"/>
          <a:stretch/>
        </p:blipFill>
        <p:spPr>
          <a:xfrm>
            <a:off x="6580080" y="4595760"/>
            <a:ext cx="1576440" cy="14144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5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655280" y="1873080"/>
            <a:ext cx="7193160" cy="429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becně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Formuláře MZ včetně povinných příloh na </a:t>
            </a:r>
            <a:r>
              <a:rPr b="0" lang="cs-CZ" sz="16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msmt.cz/strukturalni-fondy/pro-zadate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Podepsaná statutárním zástupcem či pověřenou osobou – 1 ks originá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Zaslat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 poštou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a adresu Karmelitská 7, 118 12 Praha 1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nebo donést </a:t>
            </a:r>
            <a:r>
              <a:rPr b="1" lang="cs-CZ" sz="1600" spc="-1" strike="noStrike">
                <a:solidFill>
                  <a:srgbClr val="000000"/>
                </a:solidFill>
                <a:latin typeface="Calibri"/>
              </a:rPr>
              <a:t>osobně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na odbor CERA – Křižíkova 34, Corso IIa, Praha – Karlín, 3. patro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 u="sng">
                <a:solidFill>
                  <a:srgbClr val="000000"/>
                </a:solidFill>
                <a:uFillTx/>
                <a:latin typeface="Calibri"/>
              </a:rPr>
              <a:t>Údaje na obálce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adres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jméno přiděleného projektového manažera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registrační číslo projektu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1600" spc="-1" strike="noStrike">
                <a:solidFill>
                  <a:srgbClr val="000000"/>
                </a:solidFill>
                <a:latin typeface="Calibri"/>
              </a:rPr>
              <a:t>oznámení: „Neotvírat – Monitorovací zpráva“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Obdélník 4"/>
          <p:cNvSpPr/>
          <p:nvPr/>
        </p:nvSpPr>
        <p:spPr>
          <a:xfrm>
            <a:off x="1655640" y="317520"/>
            <a:ext cx="7193160" cy="159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Monitorovací zprávy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Průběž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Závěrečná monitorovací zprá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buClr>
                <a:srgbClr val="000000"/>
              </a:buClr>
              <a:buSzPct val="7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alibri"/>
              </a:rPr>
              <a:t>Monitorovací zpráva o udržitelnost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59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obsah 7"/>
          <p:cNvSpPr/>
          <p:nvPr/>
        </p:nvSpPr>
        <p:spPr>
          <a:xfrm>
            <a:off x="1655640" y="1031760"/>
            <a:ext cx="7021800" cy="509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Průběž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30 kalendářních dnů od ukončení monitorovacího období (monitorovací období poprvé 3 měsíce; </a:t>
            </a: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pak 6 měsíců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bdobí možno stanovovat podle přesných termínů nebo kalendářních měsíc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Části MZ: věcná (podává se vždy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finanční (jen se žádostí o platbu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" descr="C:\Documents and Settings\gotzv\Local Settings\Temporary Internet Files\Content.IE5\84NCG0JY\MCj03013840000[1].wmf"/>
          <p:cNvPicPr/>
          <p:nvPr/>
        </p:nvPicPr>
        <p:blipFill>
          <a:blip r:embed="rId1"/>
          <a:stretch/>
        </p:blipFill>
        <p:spPr>
          <a:xfrm>
            <a:off x="7164360" y="3882960"/>
            <a:ext cx="1425600" cy="11527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3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Obdélník 4"/>
          <p:cNvSpPr/>
          <p:nvPr/>
        </p:nvSpPr>
        <p:spPr>
          <a:xfrm>
            <a:off x="2109960" y="706320"/>
            <a:ext cx="6738840" cy="502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sp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Žádost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Souhrn všech způsobilých výdajů za uplynulé monitorovací období (soupiska účetních dokladů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ůže zahrnovat i výdaje vzniklé v předchozím období, k nimž neměl příjemce v uvedenou dobu potřebnou dokumentac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ff0000"/>
                </a:solidFill>
                <a:latin typeface="Calibri"/>
              </a:rPr>
              <a:t>Výše prostředků vyúčtovaných v žádostech o platbu se může maximálně rovnat výši poskytnuté zálohy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d0d0d"/>
                </a:solidFill>
                <a:latin typeface="Calibri"/>
              </a:rPr>
              <a:t>Příjemce nemusí překládat účetní doklady do maximální hodnoty       10 000,- Kč (včetně DPH) za jeden účetní doklad – musí je mít ale          vždy k dispozici pro případnou kontrolu na místě. </a:t>
            </a:r>
            <a:r>
              <a:rPr b="1" lang="cs-CZ" sz="1800" spc="-1" strike="noStrike">
                <a:solidFill>
                  <a:srgbClr val="0d0d0d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66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C:\Documents and Settings\gotzv\Local Settings\Temporary Internet Files\Content.IE5\6M4G49P7\MCj02504620000[1].wmf"/>
          <p:cNvPicPr/>
          <p:nvPr/>
        </p:nvPicPr>
        <p:blipFill>
          <a:blip r:embed="rId1"/>
          <a:stretch/>
        </p:blipFill>
        <p:spPr>
          <a:xfrm>
            <a:off x="6191280" y="4854600"/>
            <a:ext cx="1922400" cy="1646280"/>
          </a:xfrm>
          <a:prstGeom prst="rect">
            <a:avLst/>
          </a:prstGeom>
          <a:ln w="0">
            <a:noFill/>
          </a:ln>
        </p:spPr>
      </p:pic>
      <p:sp>
        <p:nvSpPr>
          <p:cNvPr id="68" name="Obdélník 6"/>
          <p:cNvSpPr/>
          <p:nvPr/>
        </p:nvSpPr>
        <p:spPr>
          <a:xfrm>
            <a:off x="1590840" y="189000"/>
            <a:ext cx="7323120" cy="596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f9900"/>
                </a:solidFill>
                <a:latin typeface="Calibri"/>
              </a:rPr>
              <a:t>Monitorovací indikátory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každé MZ musí být průběžně sledováno plnění MI tak jak jsou uvedeny ve smlouvě ale také podle pohlaví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edodržení celkových MI je sankcionovatelné (nedodržení sledovaných indikátorů dle pohlaví není – nejedná se o porušení rozpočtové kázně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V MZ se sledují KUMULATIVNÍ HODNOTY od počátku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Musí být vedena průkazná evidence : záznamy o žácích, docházka, vydané certifikáty apo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Nutno dodržovat předpisy upravující ochranu osobních údajů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! Vydána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etodik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monitorovacích indikátorů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!!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0" name="Podnadpis 2"/>
          <p:cNvSpPr/>
          <p:nvPr/>
        </p:nvSpPr>
        <p:spPr>
          <a:xfrm>
            <a:off x="264312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Zástupný symbol pro obsah 7"/>
          <p:cNvSpPr/>
          <p:nvPr/>
        </p:nvSpPr>
        <p:spPr>
          <a:xfrm>
            <a:off x="1720800" y="447840"/>
            <a:ext cx="6956640" cy="56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Námitky vůči krácení částky v žádosti o platbu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ůvody krácení jsou vždy sděleny  písemně či elektronick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Příjemce může vznést námitku do 30 kalendářních dnů od doručení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Do 10 pracovních dnů od přijetí námitky je postup krácení částky ověře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7f7f7f"/>
                </a:solidFill>
                <a:latin typeface="Calibri"/>
              </a:rPr>
              <a:t>O výsledku je příjemce informován do 5 pracovních dnů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828720">
              <a:lnSpc>
                <a:spcPct val="100000"/>
              </a:lnSpc>
              <a:spcAft>
                <a:spcPts val="7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792440" y="4530240"/>
            <a:ext cx="5486400" cy="149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Poskytovatel může požadovat doplnění chybějících či neúplných informací – obecně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do 15 pracovních dní či si může vyžádat informace </a:t>
            </a:r>
            <a:br>
              <a:rPr sz="2000"/>
            </a:b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v kratší lhůtě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4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Zástupný symbol pro obsah 7" descr=""/>
          <p:cNvPicPr/>
          <p:nvPr/>
        </p:nvPicPr>
        <p:blipFill>
          <a:blip r:embed="rId1"/>
          <a:stretch/>
        </p:blipFill>
        <p:spPr>
          <a:xfrm>
            <a:off x="1292400" y="438120"/>
            <a:ext cx="7242120" cy="47196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2" descr="C:\Documents and Settings\gotzv\Local Settings\Temporary Internet Files\Content.IE5\ZXF16QS5\MCj02899550000[1].wmf"/>
          <p:cNvPicPr/>
          <p:nvPr/>
        </p:nvPicPr>
        <p:blipFill>
          <a:blip r:embed="rId2"/>
          <a:stretch/>
        </p:blipFill>
        <p:spPr>
          <a:xfrm>
            <a:off x="5572080" y="4500720"/>
            <a:ext cx="2073240" cy="13636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78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Zástupný symbol pro obsah 7"/>
          <p:cNvSpPr/>
          <p:nvPr/>
        </p:nvSpPr>
        <p:spPr>
          <a:xfrm>
            <a:off x="1851120" y="1225440"/>
            <a:ext cx="7021440" cy="421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900" spc="-1" strike="noStrike">
                <a:solidFill>
                  <a:srgbClr val="f3912c"/>
                </a:solidFill>
                <a:latin typeface="Calibri"/>
              </a:rPr>
              <a:t>Závěrečná monitorovací zpráva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Do 2 měsíců po ukončení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U projektů nad 3 mil. Kč se přikládá k žádosti o závěrečnou platbu závěrečný audit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Příjemce přikládá </a:t>
            </a:r>
            <a:r>
              <a:rPr b="1" lang="cs-CZ" sz="2200" spc="-1" strike="noStrike">
                <a:solidFill>
                  <a:srgbClr val="000000"/>
                </a:solidFill>
                <a:latin typeface="Calibri"/>
              </a:rPr>
              <a:t>souhrnnou informaci </a:t>
            </a:r>
            <a:r>
              <a:rPr b="0" lang="cs-CZ" sz="2200" spc="-1" strike="noStrike">
                <a:solidFill>
                  <a:srgbClr val="000000"/>
                </a:solidFill>
                <a:latin typeface="Calibri"/>
              </a:rPr>
              <a:t>o realizaci projektu včetně publicity projektu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414360">
              <a:lnSpc>
                <a:spcPct val="100000"/>
              </a:lnSpc>
              <a:spcAft>
                <a:spcPts val="103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1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287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1" name="Podnadpis 2"/>
          <p:cNvSpPr/>
          <p:nvPr/>
        </p:nvSpPr>
        <p:spPr>
          <a:xfrm>
            <a:off x="6000840" y="6172200"/>
            <a:ext cx="31431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8T11:18:55Z</dcterms:created>
  <dc:creator>ugh</dc:creator>
  <dc:description/>
  <dc:language>en-US</dc:language>
  <cp:lastModifiedBy>ugh</cp:lastModifiedBy>
  <dcterms:modified xsi:type="dcterms:W3CDTF">2009-12-09T17:28:35Z</dcterms:modified>
  <cp:revision>14</cp:revision>
  <dc:subject/>
  <dc:title>Snímek 1</dc:title>
</cp:coreProperties>
</file>